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9EE5-76F9-49DD-8923-671412F5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E15-1597-4ECB-BC54-91925D862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F547-F976-44BD-8544-21B6D3523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4A8A-E993-4B48-B2F8-C7B2C00EF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365D-A45E-4FCD-A7EF-713A0F36A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8D6C-4D3F-4E17-9A7E-484D159FF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210D-6077-42C7-84A6-672B11F1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82F6-1C16-48E4-B3C9-63A39155E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ADE6-5E3C-4FCD-AEB1-AB14AED73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242A-918D-4359-B63D-AE4C3D6AF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F7AE-68A0-41C8-BF60-B3DF6F66E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99EB-213A-4406-8F56-31ECE381E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7DE-80C3-42B8-AEE4-B4264339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91EC-D57C-4239-A778-C55EF8C1C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9F7D-F103-492F-8B95-7C2403EB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826A-29DB-479A-9929-6220F933A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CC1-A65D-4C08-B878-D752B0DE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397C-8C76-4B7A-A54F-0A48FD1D3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1E02-B1AA-4962-8778-7331CB3F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6073-804C-4DF7-AEDC-94B42459D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3BD9-F1B5-4175-B79A-52965FBA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A897-DE68-4132-9AE0-BF74E5604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7FED-1630-4B1E-926B-AAB047131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C4D-A0F8-4172-8ECF-0FE11EBD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EEC-9A58-4BD6-B656-1C78C7F43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A717-62C8-4748-B94E-AB80A0D5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705-ECD5-4193-B3A5-BC27A80B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17D-A13A-44D7-9798-1C9AB373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853-4FD4-41AF-BC58-B1F11FEA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674-B520-4537-9FE8-998F2CD6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F5A-4911-4421-AB5B-CC98E28F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412-D6E6-4BCA-8DC6-92D2265F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201-8552-4202-850D-DB00F4D9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924-9C4B-4FDF-9E59-EC0AF1F5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7EA-4B49-4ECF-8880-E6EADF8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706-B2D5-46EA-88C2-89FD882D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05D-7CE1-49CD-BCA5-E86E2867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8DD-B361-4C60-86C6-FD71963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61B1-D757-49D1-B812-C6F55834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DAC-9824-4E64-9FC0-07C6CA914DE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И КОМПЛИКАЦИЈЕ У ТОКУ ВАЂЕЊА ЗУБ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6 -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Индикације и контраиндикације за вађење зуба, инструментаријум,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технике вађења зуба, вађење заломњених зуба, хируршко вађење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заосталих коренова, компликације у току вађења зуб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4F0E-4977-42A3-8175-1EAC98064A4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69800" y="1600200"/>
            <a:ext cx="8169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 почетка вађења зуба потребно је одабрати одговарајуће инстру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ФАЗЕ ВАЂЕЊА ЗУБА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1. ОДВАЈАЊЕ ПРИПОЈА ГИНГИВЕ СА ВЕСТИБУЛАРНЕ И ОРАЛНЕ СТРАНЕ, ОД ВРАТ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C:\Users\Zoran\Downloads\oralna hirurgija\slike\imagesss.jpg"/>
          <p:cNvPicPr/>
          <p:nvPr/>
        </p:nvPicPr>
        <p:blipFill>
          <a:blip r:embed="rId1"/>
          <a:stretch/>
        </p:blipFill>
        <p:spPr>
          <a:xfrm>
            <a:off x="2728800" y="4073400"/>
            <a:ext cx="35290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81A8-ED6B-4A42-9EFB-A0A903D22B7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80960" y="1768320"/>
            <a:ext cx="80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2.  АПЛИКАЦИЈА И РЕТЕНЦИЈА КЛЕШТА НА ВРАТ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rcRect l="630" t="26818" r="2425" b="2779"/>
          <a:stretch/>
        </p:blipFill>
        <p:spPr>
          <a:xfrm>
            <a:off x="4836960" y="2708280"/>
            <a:ext cx="4307040" cy="2130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8"/>
          <p:cNvSpPr/>
          <p:nvPr/>
        </p:nvSpPr>
        <p:spPr>
          <a:xfrm>
            <a:off x="577800" y="2570040"/>
            <a:ext cx="483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ни краци одговарајућих клешта се утискују испод гингиве, адаптирају на врат зуба, односно у предео фуркације код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езањем ручки, клешта се чврсто фиксирају на з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DFB-A96B-4D5F-83EB-04F562705C0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69800" y="1768320"/>
            <a:ext cx="848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3. ДИСЛОКАЦИЈА ИЛИ ПОМЕРАЊЕ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крети луксације ( померање у вестибуларном и оралном павцу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крети ротације ( окретање зуба око његове осовин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мбиновани покр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C:\Users\Zoran\Downloads\oralna hirurgija\slike\slide-20-728 (1).jpg"/>
          <p:cNvPicPr/>
          <p:nvPr/>
        </p:nvPicPr>
        <p:blipFill>
          <a:blip r:embed="rId1"/>
          <a:srcRect l="-175" t="0" r="0" b="52701"/>
          <a:stretch/>
        </p:blipFill>
        <p:spPr>
          <a:xfrm>
            <a:off x="985680" y="4013280"/>
            <a:ext cx="1441440" cy="168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Users\Zoran\Downloads\oralna hirurgija\slike\slide-20-728 (1).jpg"/>
          <p:cNvPicPr/>
          <p:nvPr/>
        </p:nvPicPr>
        <p:blipFill>
          <a:blip r:embed="rId2"/>
          <a:srcRect l="651" t="57690" r="2328" b="0"/>
          <a:stretch/>
        </p:blipFill>
        <p:spPr>
          <a:xfrm>
            <a:off x="2406600" y="4017960"/>
            <a:ext cx="1395360" cy="1684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C:\Users\Zoran\Downloads\oralna hirurgija\slike\slide-21-728.jpg"/>
          <p:cNvPicPr/>
          <p:nvPr/>
        </p:nvPicPr>
        <p:blipFill>
          <a:blip r:embed="rId3"/>
          <a:stretch/>
        </p:blipFill>
        <p:spPr>
          <a:xfrm>
            <a:off x="3967200" y="4006800"/>
            <a:ext cx="1619280" cy="177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C:\Users\Zoran\Downloads\oralna hirurgija\slike\slide-18-728.jpg"/>
          <p:cNvPicPr/>
          <p:nvPr/>
        </p:nvPicPr>
        <p:blipFill>
          <a:blip r:embed="rId4"/>
          <a:stretch/>
        </p:blipFill>
        <p:spPr>
          <a:xfrm>
            <a:off x="5854680" y="4089240"/>
            <a:ext cx="1981080" cy="16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4DB7-4EA1-4E70-AC75-6B0A3838DAF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Zoran\Downloads\oralna hirurgija\slike\slide-21-728.jpg"/>
          <p:cNvPicPr/>
          <p:nvPr/>
        </p:nvPicPr>
        <p:blipFill>
          <a:blip r:embed="rId1"/>
          <a:stretch/>
        </p:blipFill>
        <p:spPr>
          <a:xfrm>
            <a:off x="585720" y="1763640"/>
            <a:ext cx="1619280" cy="18860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2490840" y="1792440"/>
            <a:ext cx="63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кретима ротације ваде с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орњи централни секути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њи премол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rcRect l="2242" t="983" r="2595" b="2595"/>
          <a:stretch/>
        </p:blipFill>
        <p:spPr>
          <a:xfrm>
            <a:off x="6184800" y="1528920"/>
            <a:ext cx="2718000" cy="275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Zoran\Downloads\oralna hirurgija\slike\slide-20-728 (1).jpg"/>
          <p:cNvPicPr/>
          <p:nvPr/>
        </p:nvPicPr>
        <p:blipFill>
          <a:blip r:embed="rId3"/>
          <a:srcRect l="2328" t="0" r="0" b="52701"/>
          <a:stretch/>
        </p:blipFill>
        <p:spPr>
          <a:xfrm>
            <a:off x="179280" y="4289400"/>
            <a:ext cx="1405080" cy="169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Users\Zoran\Downloads\oralna hirurgija\slike\slide-20-728 (1).jpg"/>
          <p:cNvPicPr/>
          <p:nvPr/>
        </p:nvPicPr>
        <p:blipFill>
          <a:blip r:embed="rId4"/>
          <a:srcRect l="1477" t="56743" r="0" b="-3548"/>
          <a:stretch/>
        </p:blipFill>
        <p:spPr>
          <a:xfrm>
            <a:off x="1446120" y="4309920"/>
            <a:ext cx="1516320" cy="17859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1"/>
          <p:cNvSpPr/>
          <p:nvPr/>
        </p:nvSpPr>
        <p:spPr>
          <a:xfrm>
            <a:off x="3213000" y="4692600"/>
            <a:ext cx="43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ОКРЕТИМА ЛУКСАЦИЈЕ СВИ ОСТАЛИ ЗУ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6F07-61EE-4C32-87DD-21D28869695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17680" y="1828800"/>
            <a:ext cx="81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4. ИЗВЛАЧЕЊЕ ЗУБА ИЗ АЛВЕ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C:\Users\Zoran\Downloads\oralna hirurgija\slike\imagesva.jpg"/>
          <p:cNvPicPr/>
          <p:nvPr/>
        </p:nvPicPr>
        <p:blipFill>
          <a:blip r:embed="rId1"/>
          <a:stretch/>
        </p:blipFill>
        <p:spPr>
          <a:xfrm>
            <a:off x="5438880" y="195408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473040" y="2909880"/>
            <a:ext cx="487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влачење зуба се врши лагано и по правилу, према вестибуларној стр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брињавање ран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A602-7E95-417D-B5D6-8F0FFCC771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409680" y="1335240"/>
            <a:ext cx="8313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уклањања зуба из алвеоле треба проверити да ли је он извађен у целости или н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брада ране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лањање гранулационог ткива, заломљеног септума или кортикалне ламеле односно њихово скраћење клештима за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ецање маказицама нагњечене гингиве и хиперпластичних папила које упадају у алве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шивање поцепане гингиве у дужини од преко 0,5 ц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позиција кортикалних ламела стезањем алвеоле преко г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C:\Users\Zoran\Downloads\oralna hirurgija\slike\imagesmm.jpg"/>
          <p:cNvPicPr/>
          <p:nvPr/>
        </p:nvPicPr>
        <p:blipFill>
          <a:blip r:embed="rId1"/>
          <a:stretch/>
        </p:blipFill>
        <p:spPr>
          <a:xfrm>
            <a:off x="442800" y="4689360"/>
            <a:ext cx="1876680" cy="1552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C:\Users\Zoran\Downloads\oralna hirurgija\slike\imagesmmnmnmn.jpg"/>
          <p:cNvPicPr/>
          <p:nvPr/>
        </p:nvPicPr>
        <p:blipFill>
          <a:blip r:embed="rId2"/>
          <a:stretch/>
        </p:blipFill>
        <p:spPr>
          <a:xfrm>
            <a:off x="3094200" y="4699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Users\Zoran\Downloads\oralna hirurgija\slike\imagesnbn.jpg"/>
          <p:cNvPicPr/>
          <p:nvPr/>
        </p:nvPicPr>
        <p:blipFill>
          <a:blip r:embed="rId3"/>
          <a:stretch/>
        </p:blipFill>
        <p:spPr>
          <a:xfrm>
            <a:off x="6273720" y="4743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3C70-3296-4DE6-B324-8DF9BC88926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69800" y="1708200"/>
            <a:ext cx="816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ина екстракција зуба, применом правилног поступка, завршава се тзв. једноставним вађењем. Међутим, у око 10 % случајева настаје прелом круне или корена зуба, што изискује примену другачијих поступака – “компликовано вађење 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:\Users\Zoran\Downloads\oralna hirurgija\slike\slide-19-728 (1).jpg"/>
          <p:cNvPicPr/>
          <p:nvPr/>
        </p:nvPicPr>
        <p:blipFill>
          <a:blip r:embed="rId1"/>
          <a:stretch/>
        </p:blipFill>
        <p:spPr>
          <a:xfrm>
            <a:off x="7682040" y="2766960"/>
            <a:ext cx="1190520" cy="365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Zoran\Downloads\oralna hirurgija\slike\slide-27-728.jpg"/>
          <p:cNvPicPr/>
          <p:nvPr/>
        </p:nvPicPr>
        <p:blipFill>
          <a:blip r:embed="rId2"/>
          <a:stretch/>
        </p:blipFill>
        <p:spPr>
          <a:xfrm>
            <a:off x="6075360" y="3619440"/>
            <a:ext cx="1276200" cy="2048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493560" y="3441600"/>
            <a:ext cx="55342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разлози прелома зуб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Каријесом деструирана кру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овољна грађа вилице и остео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ужина , облик и масивност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рој морфологија и међусобни однос коре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диопатска ресорпција корена- риз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697A-9841-432C-B81C-A59DD024ABF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469800" y="1528920"/>
            <a:ext cx="81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АЛОМЉЕНИХ ЈЕДНОКОРЕ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C:\Users\Zoran\Downloads\oralna hirurgija\slike\slide-30-728.jpg"/>
          <p:cNvPicPr/>
          <p:nvPr/>
        </p:nvPicPr>
        <p:blipFill>
          <a:blip r:embed="rId1"/>
          <a:stretch/>
        </p:blipFill>
        <p:spPr>
          <a:xfrm>
            <a:off x="839880" y="3670200"/>
            <a:ext cx="2062080" cy="270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Users\Zoran\Downloads\oralna hirurgija\slike\ju1.jpg"/>
          <p:cNvPicPr/>
          <p:nvPr/>
        </p:nvPicPr>
        <p:blipFill>
          <a:blip r:embed="rId2"/>
          <a:stretch/>
        </p:blipFill>
        <p:spPr>
          <a:xfrm>
            <a:off x="3705120" y="3549600"/>
            <a:ext cx="1505160" cy="29336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528480" y="2057400"/>
            <a:ext cx="83743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зуба у висини врат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испод или изнад нивоа алвеоле у првој трећин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у пределу врха корена ( апикална трећи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Zoran\Downloads\oralna hirurgija\slike\slide-19-728 (1).jpg"/>
          <p:cNvPicPr/>
          <p:nvPr/>
        </p:nvPicPr>
        <p:blipFill>
          <a:blip r:embed="rId3"/>
          <a:srcRect l="5534" t="52303" r="0" b="3947"/>
          <a:stretch/>
        </p:blipFill>
        <p:spPr>
          <a:xfrm>
            <a:off x="6532560" y="3983040"/>
            <a:ext cx="15699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F388-36B7-49FC-8BE7-B4697E1321B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72960" y="1936800"/>
            <a:ext cx="81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АЛОМЉЕНИХ ГОРЊИХ МОЛАРА И ПРЕМО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C:\Users\Zoran\Downloads\oralna hirurgija\slike\step1.png"/>
          <p:cNvPicPr/>
          <p:nvPr/>
        </p:nvPicPr>
        <p:blipFill>
          <a:blip r:embed="rId1"/>
          <a:stretch/>
        </p:blipFill>
        <p:spPr>
          <a:xfrm>
            <a:off x="5127480" y="2666880"/>
            <a:ext cx="3589560" cy="31323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0"/>
          <p:cNvSpPr/>
          <p:nvPr/>
        </p:nvSpPr>
        <p:spPr>
          <a:xfrm>
            <a:off x="355680" y="3165480"/>
            <a:ext cx="465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прелома горњих молара не треба покушавати вађење клеш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боље је приступити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сепарациј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оренова и њиховом појединачном вађењ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424560"/>
            <a:ext cx="372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4109-386C-4A44-A541-9832B3E992C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80960" y="1828800"/>
            <a:ext cx="806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АЛОМЉЕНИХ ДОЊИХ МО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парација у вестибуло-оралном пра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во се вадо дистални па мезијални ко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авац вађења зависи од повијеност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C:\Users\Zoran\Downloads\oralna hirurgija\slike\imagesCATJGBLO.jpg"/>
          <p:cNvPicPr/>
          <p:nvPr/>
        </p:nvPicPr>
        <p:blipFill>
          <a:blip r:embed="rId1"/>
          <a:stretch/>
        </p:blipFill>
        <p:spPr>
          <a:xfrm>
            <a:off x="426960" y="3780000"/>
            <a:ext cx="2835360" cy="2124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C:\Users\Zoran\Downloads\oralna hirurgija\slike\iwO6b-fMyP.Vcsg4cRqRqA_m.png"/>
          <p:cNvPicPr/>
          <p:nvPr/>
        </p:nvPicPr>
        <p:blipFill>
          <a:blip r:embed="rId2"/>
          <a:stretch/>
        </p:blipFill>
        <p:spPr>
          <a:xfrm>
            <a:off x="3284640" y="3762360"/>
            <a:ext cx="2927160" cy="2197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C:\Users\Zoran\Downloads\oralna hirurgija\slike\HXb9Re0PqkB.sYDShDd0Rg_m.png"/>
          <p:cNvPicPr/>
          <p:nvPr/>
        </p:nvPicPr>
        <p:blipFill>
          <a:blip r:embed="rId3"/>
          <a:stretch/>
        </p:blipFill>
        <p:spPr>
          <a:xfrm>
            <a:off x="6566040" y="4186080"/>
            <a:ext cx="2296800" cy="17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CE05-2FB7-4548-B1CE-3E1584F46B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69800" y="1913040"/>
            <a:ext cx="815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УБА ЈЕ СКУП ПОСТУПАКА СА ЦИЉЕМ ДА СЕ, УЗ ПРИМЕНУ ОДГОВАРАЈУЋЕ СИЛЕ, ЗУБ ОДВОЈИ ОД АЛВЕОЛЕ И УКЛОНИ ИЗ 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:\Users\Zoran\Downloads\oralna hirurgija\slike\imagesbh.jpg"/>
          <p:cNvPicPr/>
          <p:nvPr/>
        </p:nvPicPr>
        <p:blipFill>
          <a:blip r:embed="rId1"/>
          <a:srcRect l="24112" t="2882" r="17158" b="3142"/>
          <a:stretch/>
        </p:blipFill>
        <p:spPr>
          <a:xfrm>
            <a:off x="6894360" y="3657600"/>
            <a:ext cx="2076480" cy="2658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65200" y="3357720"/>
            <a:ext cx="6100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 је у алвеоли фиксиран многобројним колагеним влакнима, распоређеним у различитим правцима, који представљају основни део периодонциј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вађења зуба одговарајућим покретима  се кидају поједина периодонтална влакна  и шири зубна алвеола што омогућава вађење зуба без примене јаке с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7182-1362-434B-AB00-ADA74E69487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хируршк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80960" y="204480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ојединим случајевима, вађење заломљеног корена може најбезбедније да се изведе хируршким путем, односно трепанацијом алвеоле после одизања мукопериосталног реж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у у питању корени који су дуже време заостали у вилици, то је и једини на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Zoran\Downloads\oralna hirurgija\slike\imagesopo.jpg"/>
          <p:cNvPicPr/>
          <p:nvPr/>
        </p:nvPicPr>
        <p:blipFill>
          <a:blip r:embed="rId1"/>
          <a:srcRect l="113" t="18426" r="51266" b="1952"/>
          <a:stretch/>
        </p:blipFill>
        <p:spPr>
          <a:xfrm>
            <a:off x="3621240" y="3886200"/>
            <a:ext cx="169704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DEB0-480B-4F9B-990C-AED18D6FAD8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хируршк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17680" y="1768320"/>
            <a:ext cx="819288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 ЗА ПРИМЕНУ ОВОГ МЕТОДА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је врх корена изразито повијен или маљич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постоји ризик од утискивања заломљеног корена у суседне анатомске структуре ( максиларни синус, мандибуларни канал, перимандибуларни прост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грађа вилице изузетно отежава вађење кроз алве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је корен заостао, а рана зара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06F7-8873-4503-A60D-7B4FD93B34A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млечних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9" name="Picture 6" descr="C:\Users\Zoran\Downloads\oralna hirurgija\slike\imagemle.jpg"/>
          <p:cNvPicPr/>
          <p:nvPr/>
        </p:nvPicPr>
        <p:blipFill>
          <a:blip r:embed="rId1"/>
          <a:stretch/>
        </p:blipFill>
        <p:spPr>
          <a:xfrm>
            <a:off x="593640" y="1623960"/>
            <a:ext cx="3192480" cy="23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Users\Zoran\Downloads\oralna hirurgija\slike\imageml.jpg"/>
          <p:cNvPicPr/>
          <p:nvPr/>
        </p:nvPicPr>
        <p:blipFill>
          <a:blip r:embed="rId2"/>
          <a:stretch/>
        </p:blipFill>
        <p:spPr>
          <a:xfrm>
            <a:off x="4799160" y="1704960"/>
            <a:ext cx="3929040" cy="226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601560" y="4427640"/>
            <a:ext cx="8205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инципу, млечни зуби се ваде на исти начин као и стални зу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нтген снимак је од посебног знацаја за планирање екстракције млеч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вом снимку одређује се однос коренова млечног зуба са сталним замеником, као и степен ресорпције коренова млеч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3B88-2F82-4C8A-AF03-4096505699F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путства после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469800" y="1492200"/>
            <a:ext cx="8109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бегавати храну док траје анест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у не треба испи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 следећег дана одржавати нормалну хигиј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 потреби користити аналгетик без без ацетил-салицилне 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ладан облог споља у првих 12 сати након вађ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случају крварења јавити се дежурној служ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о је после интервенције у рану стављено неко страно тело обавезно заказати контролни преглед најкасније у року од 48 с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8FAD-CEFA-4E05-8BCF-87274B1BE99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493560" y="1442880"/>
            <a:ext cx="80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1.  ФРАКТУРА КРУНЕ ИЛИ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C:\Users\Zoran\Downloads\oralna hirurgija\slike\20050122294a379efc01d373.99813001.JPG"/>
          <p:cNvPicPr/>
          <p:nvPr/>
        </p:nvPicPr>
        <p:blipFill>
          <a:blip r:embed="rId1"/>
          <a:stretch/>
        </p:blipFill>
        <p:spPr>
          <a:xfrm>
            <a:off x="1355760" y="2001960"/>
            <a:ext cx="6372360" cy="2266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3"/>
          <p:cNvSpPr/>
          <p:nvPr/>
        </p:nvSpPr>
        <p:spPr>
          <a:xfrm>
            <a:off x="360360" y="4740120"/>
            <a:ext cx="848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јавља услед анатомских аномалија коренова, или је реч о погрешној техници вађења зуба ( лош избор клешта, лоша апликација клешта као и употреба погрешних и грубих покрет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CB97-3088-478D-BF31-0D8DB38F2B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49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433440" y="1744560"/>
            <a:ext cx="82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2. ПОВРЕДЕ МЕК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1"/>
          <a:srcRect l="0" t="8196" r="4390" b="11359"/>
          <a:stretch/>
        </p:blipFill>
        <p:spPr>
          <a:xfrm>
            <a:off x="368280" y="2538360"/>
            <a:ext cx="3414600" cy="2052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2"/>
          <a:stretch/>
        </p:blipFill>
        <p:spPr>
          <a:xfrm>
            <a:off x="5049720" y="2619360"/>
            <a:ext cx="3517920" cy="20509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1"/>
          <p:cNvSpPr/>
          <p:nvPr/>
        </p:nvSpPr>
        <p:spPr>
          <a:xfrm>
            <a:off x="1852560" y="5186520"/>
            <a:ext cx="51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мичк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767B-691C-4FBC-857D-C8834855847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9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6" name="Picture 11" descr="C:\Users\Zoran\Downloads\oralna hirurgija\slike\imagespolo.jpg"/>
          <p:cNvPicPr/>
          <p:nvPr/>
        </p:nvPicPr>
        <p:blipFill>
          <a:blip r:embed="rId1"/>
          <a:srcRect l="0" t="5899" r="3936" b="11238"/>
          <a:stretch/>
        </p:blipFill>
        <p:spPr>
          <a:xfrm>
            <a:off x="357120" y="2154240"/>
            <a:ext cx="3935520" cy="2411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C:\Users\Zoran\Downloads\oralna hirurgija\slike\imagepoppp.jpg"/>
          <p:cNvPicPr/>
          <p:nvPr/>
        </p:nvPicPr>
        <p:blipFill>
          <a:blip r:embed="rId2"/>
          <a:stretch/>
        </p:blipFill>
        <p:spPr>
          <a:xfrm>
            <a:off x="5200560" y="2084400"/>
            <a:ext cx="3486240" cy="28796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3"/>
          <p:cNvSpPr/>
          <p:nvPr/>
        </p:nvSpPr>
        <p:spPr>
          <a:xfrm>
            <a:off x="2490840" y="55706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чк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D731-36AF-4E0B-988E-14328A63BAA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6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444600" y="172080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3. ПОВРЕДА СУСЕДНОГ ЗУБА ИЛИ ЗУБА АНТАГОН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услед погрешне апликације клешта преко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доња вилиц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след неправилног рада са полугом ( тачка ослонца на суседном зубу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C:\Users\Zoran\Downloads\oralna hirurgija\slike\slide-29-728 (2).jpg"/>
          <p:cNvPicPr/>
          <p:nvPr/>
        </p:nvPicPr>
        <p:blipFill>
          <a:blip r:embed="rId1"/>
          <a:stretch/>
        </p:blipFill>
        <p:spPr>
          <a:xfrm>
            <a:off x="5934240" y="4084560"/>
            <a:ext cx="2822400" cy="2268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C:\Users\Zoran\Downloads\oralna hirurgija\slike\imagesgfr.jpg"/>
          <p:cNvPicPr/>
          <p:nvPr/>
        </p:nvPicPr>
        <p:blipFill>
          <a:blip r:embed="rId2"/>
          <a:stretch/>
        </p:blipFill>
        <p:spPr>
          <a:xfrm>
            <a:off x="623880" y="4341960"/>
            <a:ext cx="366408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57C3-9E74-4607-BFAE-64E6DDCAED9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" y="17082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4. ПОВРЕДА АЛВЕОЛАРНОГ НА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C:\Users\Zoran\Downloads\oralna hirurgija\slike\download (5).jpg"/>
          <p:cNvPicPr/>
          <p:nvPr/>
        </p:nvPicPr>
        <p:blipFill>
          <a:blip r:embed="rId1"/>
          <a:srcRect l="17811" t="0" r="13510" b="1998"/>
          <a:stretch/>
        </p:blipFill>
        <p:spPr>
          <a:xfrm>
            <a:off x="1022400" y="3316320"/>
            <a:ext cx="2798640" cy="2951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C:\Users\Zoran\Downloads\oralna hirurgija\slike\imagesdlo.jpg"/>
          <p:cNvPicPr/>
          <p:nvPr/>
        </p:nvPicPr>
        <p:blipFill>
          <a:blip r:embed="rId2"/>
          <a:stretch/>
        </p:blipFill>
        <p:spPr>
          <a:xfrm>
            <a:off x="4900680" y="3424320"/>
            <a:ext cx="3516120" cy="2340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3"/>
          <p:cNvSpPr/>
          <p:nvPr/>
        </p:nvSpPr>
        <p:spPr>
          <a:xfrm>
            <a:off x="746280" y="259884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: анатомски, патолошки и јатр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C6D2-52E7-4F5F-A4F0-CF5E3CC4E9A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444600" y="1515960"/>
            <a:ext cx="81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5. ПРЕЛОМ ТУБЕРА ГОР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9" descr="C:\Users\Zoran\Downloads\oralna hirurgija\slike\imagesCAFNV19O.jpg"/>
          <p:cNvPicPr/>
          <p:nvPr/>
        </p:nvPicPr>
        <p:blipFill>
          <a:blip r:embed="rId1"/>
          <a:stretch/>
        </p:blipFill>
        <p:spPr>
          <a:xfrm>
            <a:off x="885960" y="2176560"/>
            <a:ext cx="2274840" cy="215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C:\Users\Zoran\Downloads\oralna hirurgija\slike\image12_w.jpg"/>
          <p:cNvPicPr/>
          <p:nvPr/>
        </p:nvPicPr>
        <p:blipFill>
          <a:blip r:embed="rId2"/>
          <a:stretch/>
        </p:blipFill>
        <p:spPr>
          <a:xfrm>
            <a:off x="5518080" y="1617840"/>
            <a:ext cx="3249720" cy="2484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2"/>
          <p:cNvSpPr/>
          <p:nvPr/>
        </p:nvSpPr>
        <p:spPr>
          <a:xfrm>
            <a:off x="650880" y="4584600"/>
            <a:ext cx="819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: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1. хируршко вађење зуба и фрактурираног туб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2. хируршко вађење зуба и задржавање туб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3. имобилизација и фиксација преломљеног тубера заједно с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0DC4-2E7E-4C7C-9B92-66F768101A9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69800" y="1757520"/>
            <a:ext cx="812016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ла потребна за вађење зуба, генерално, зависи од две групе фак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валитет и компактност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нтал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Users\Zoran\Pictures\imagesCAT2I49G.jpg"/>
          <p:cNvPicPr/>
          <p:nvPr/>
        </p:nvPicPr>
        <p:blipFill>
          <a:blip r:embed="rId1"/>
          <a:stretch/>
        </p:blipFill>
        <p:spPr>
          <a:xfrm>
            <a:off x="6345360" y="2284560"/>
            <a:ext cx="2641320" cy="4103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638280" y="4356000"/>
            <a:ext cx="58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, по правилу, лакше је из спонгиозе него из компактних делова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09A6-8442-432C-A2AD-333DC5B2400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541440" y="1600200"/>
            <a:ext cx="81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6. ПРЕЛОМ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C:\Users\Zoran\Downloads\oralna hirurgija\slike\imagelo.jpg"/>
          <p:cNvPicPr/>
          <p:nvPr/>
        </p:nvPicPr>
        <p:blipFill>
          <a:blip r:embed="rId1"/>
          <a:stretch/>
        </p:blipFill>
        <p:spPr>
          <a:xfrm>
            <a:off x="2143080" y="2371680"/>
            <a:ext cx="4908600" cy="1944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C:\Users\Zoran\Downloads\oralna hirurgija\slike\imagesvbvc.jpg"/>
          <p:cNvPicPr/>
          <p:nvPr/>
        </p:nvPicPr>
        <p:blipFill>
          <a:blip r:embed="rId2"/>
          <a:stretch/>
        </p:blipFill>
        <p:spPr>
          <a:xfrm>
            <a:off x="2205000" y="4475160"/>
            <a:ext cx="48895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FB9D-99F9-4F2D-8849-E3A82B1E39E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3" name="Picture 9" descr=""/>
          <p:cNvPicPr/>
          <p:nvPr/>
        </p:nvPicPr>
        <p:blipFill>
          <a:blip r:embed="rId1"/>
          <a:stretch/>
        </p:blipFill>
        <p:spPr>
          <a:xfrm>
            <a:off x="766800" y="1547640"/>
            <a:ext cx="3809880" cy="2870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C:\Users\Zoran\Downloads\oralna hirurgija\slike\imagesfrac.jpg"/>
          <p:cNvPicPr/>
          <p:nvPr/>
        </p:nvPicPr>
        <p:blipFill>
          <a:blip r:embed="rId2"/>
          <a:stretch/>
        </p:blipFill>
        <p:spPr>
          <a:xfrm>
            <a:off x="5753160" y="1585800"/>
            <a:ext cx="2838240" cy="29149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349200" y="4897440"/>
            <a:ext cx="863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жељно је извршити привремену имобилизацију, или бар ставити повез доње вилице. На тај начин обезбеђује се мировање фраг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смањује бол, помаже спонтано заустављање крварења и ширење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BA4F-D58B-4E60-B82F-25AB4682FF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457200" y="1768320"/>
            <a:ext cx="81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7. ЛУКСАЦИЈА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C:\Users\Zoran\Downloads\oralna hirurgija\slike\zt04.jpg"/>
          <p:cNvPicPr/>
          <p:nvPr/>
        </p:nvPicPr>
        <p:blipFill>
          <a:blip r:embed="rId1"/>
          <a:stretch/>
        </p:blipFill>
        <p:spPr>
          <a:xfrm>
            <a:off x="538200" y="2876400"/>
            <a:ext cx="3809880" cy="250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http://conseildentaire.files.wordpress.com/2011/03/atm-nelaton-01.jpg"/>
          <p:cNvPicPr/>
          <p:nvPr/>
        </p:nvPicPr>
        <p:blipFill>
          <a:blip r:embed="rId2"/>
          <a:srcRect l="773" t="0" r="0" b="5894"/>
          <a:stretch/>
        </p:blipFill>
        <p:spPr>
          <a:xfrm>
            <a:off x="5354640" y="2727360"/>
            <a:ext cx="3789360" cy="30114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4"/>
          <p:cNvSpPr/>
          <p:nvPr/>
        </p:nvSpPr>
        <p:spPr>
          <a:xfrm>
            <a:off x="601560" y="5702400"/>
            <a:ext cx="638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авезно урадити урадити репозицију мандиб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7B33-AD25-4ED3-8D68-E5255B3CB7F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TextBox 6"/>
          <p:cNvSpPr/>
          <p:nvPr/>
        </p:nvSpPr>
        <p:spPr>
          <a:xfrm>
            <a:off x="480960" y="1636560"/>
            <a:ext cx="81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8. ПОТИСКИВАЊЕ КОРЕНА У ОКОЛНА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9" descr="C:\Users\Zoran\Downloads\oralna hirurgija\slike\download (6).jpg"/>
          <p:cNvPicPr/>
          <p:nvPr/>
        </p:nvPicPr>
        <p:blipFill>
          <a:blip r:embed="rId1"/>
          <a:stretch/>
        </p:blipFill>
        <p:spPr>
          <a:xfrm>
            <a:off x="2619360" y="2744640"/>
            <a:ext cx="4002120" cy="28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а </a:t>
            </a: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Palatino Linotype"/>
              </a:rPr>
              <a:t>ОРОАНТРАЛНА КОМУН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Јатрогена (последица лекарске греш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A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натомски узрокована због односа коренова зуба са синусном шупљ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Утискивање корена у синус (</a:t>
            </a:r>
            <a:r>
              <a:rPr b="0" i="1" lang="sr-Latn-RS" sz="2400" spc="-1" strike="noStrike">
                <a:solidFill>
                  <a:srgbClr val="000000"/>
                </a:solidFill>
                <a:latin typeface="Palatino Linotype"/>
              </a:rPr>
              <a:t>corpus alienum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sr-Latn-RS" sz="2400" spc="-1" strike="noStrike">
                <a:solidFill>
                  <a:srgbClr val="000000"/>
                </a:solidFill>
                <a:latin typeface="Palatino Linotype"/>
              </a:rPr>
              <a:t>in antro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658B-7F8D-4711-A7C3-46F874A7A8E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0" y="6424560"/>
            <a:ext cx="3824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68C2-2529-4A7F-ACC5-0511E82568F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57200" y="1828800"/>
            <a:ext cx="8132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нтал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лик и повијеност, масивност, број и међусобни однос коренова значајно утичу на ток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чајно је из ових разлога пре вађења зуба направити сним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726000" y="4002120"/>
            <a:ext cx="5257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и контраиндикације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6218-73D5-4081-BAE7-2A61DA40BF7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57200" y="1587600"/>
            <a:ext cx="816912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Индикације за вађење з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и са авиталном пулпом ако се не могу излечити применом савремених ендодонских или ендодонско – хируршких мет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родонтопатични зуби у терминалној фази обољења, када пародонтолошко лечење не би било ефик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и који ометају израду задовољавајућих протетских надокнада ( протетичка индикациј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и који ометају корекцију ортодонтске аномал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пактирани, полуимпактирани и малпонирани зу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и контраиндикације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D271-8506-4C10-9DC0-439F9A1A14F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80960" y="1563840"/>
            <a:ext cx="8193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Контраинд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псолутне контраиндикације за вађење зуба не посто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ређеним ситуацијама потребно је одложити вађење зуба ради припреме пацијент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разлози за одлагање екстракције зуб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ходно антибиотско лечење са фудројантним флегмонама у орофацијалној рег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тибиотска заштита пацијената са обољењима ендокарда, пацијенти на дијализи, оболели од хемофилиј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мирење акутних и локалних обољења у усној шупљини  (улцеронекротични гингивитис, херпетични стоматитис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струменти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DEAE-2CD1-49BB-A8E0-18B992F27B3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C:\Users\Zoran\Downloads\oralna hirurgija\slike\te_04.jpg"/>
          <p:cNvPicPr/>
          <p:nvPr/>
        </p:nvPicPr>
        <p:blipFill>
          <a:blip r:embed="rId1"/>
          <a:stretch/>
        </p:blipFill>
        <p:spPr>
          <a:xfrm>
            <a:off x="2430360" y="3772080"/>
            <a:ext cx="4178520" cy="262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C:\Users\Zoran\Downloads\oralna hirurgija\slike\te_03.jpg"/>
          <p:cNvPicPr/>
          <p:nvPr/>
        </p:nvPicPr>
        <p:blipFill>
          <a:blip r:embed="rId2"/>
          <a:stretch/>
        </p:blipFill>
        <p:spPr>
          <a:xfrm>
            <a:off x="2206800" y="1341360"/>
            <a:ext cx="46386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7F80-42A2-41D1-9A4B-8D7F09310EC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струменти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Picture 7" descr="C:\Users\Zoran\Downloads\oralna hirurgija\slike\te_06.jpg"/>
          <p:cNvPicPr/>
          <p:nvPr/>
        </p:nvPicPr>
        <p:blipFill>
          <a:blip r:embed="rId1"/>
          <a:stretch/>
        </p:blipFill>
        <p:spPr>
          <a:xfrm>
            <a:off x="1932120" y="2071800"/>
            <a:ext cx="501480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24560"/>
            <a:ext cx="4032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5856-7E41-4CA3-948E-5EE208AD6D1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струменти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6" name="Picture 7" descr="C:\Users\Zoran\Downloads\oralna hirurgija\slike\te_05.jpg"/>
          <p:cNvPicPr/>
          <p:nvPr/>
        </p:nvPicPr>
        <p:blipFill>
          <a:blip r:embed="rId1"/>
          <a:stretch/>
        </p:blipFill>
        <p:spPr>
          <a:xfrm>
            <a:off x="496800" y="1733400"/>
            <a:ext cx="1484280" cy="417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Users\Zoran\Downloads\oralna hirurgija\slike\te_07.jpg"/>
          <p:cNvPicPr/>
          <p:nvPr/>
        </p:nvPicPr>
        <p:blipFill>
          <a:blip r:embed="rId2"/>
          <a:stretch/>
        </p:blipFill>
        <p:spPr>
          <a:xfrm>
            <a:off x="4908600" y="1733400"/>
            <a:ext cx="1463760" cy="4321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2081160" y="1889280"/>
            <a:ext cx="24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ни 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093760" y="2322360"/>
            <a:ext cx="25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појна ос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2117880" y="3778200"/>
            <a:ext cx="25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уч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6508800" y="1828800"/>
            <a:ext cx="24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ни 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6581880" y="253836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Врат пол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6713640" y="387360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уч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5:58:56Z</dcterms:modified>
  <cp:revision>1044</cp:revision>
  <dc:subject/>
  <dc:title>NAZIV PREDAVANJA</dc:title>
</cp:coreProperties>
</file>